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F30CD7-E356-4A07-9230-41888215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28FC1D-5B78-4838-9D86-90409BC84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1625FF-6D39-4B10-83BE-5FCF8CD331E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9261D5-F34D-4478-9992-EA13EDF8E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D47C6E-3057-4AEB-9FD9-CBB36BDD0FF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5BFC9A-B392-424C-809D-6638B7BAD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2780DE-C2DB-437A-832C-C0FB49D451F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7DFB20-B489-4517-9C80-15E43F513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B8D59E-9CAC-4FC6-8723-1D2433A9FD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BDF3BA-3706-46F0-884D-560CE364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1E82F0-1C1C-4141-9607-EF20F7362CD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EF3048-03DA-484A-8C43-1552EAC49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714DFA-24B7-42DE-9A32-ED0BCAB12AA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2C3A62-5AED-49C5-87D9-A358EBFE1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D98C18-BA63-425D-BF28-9136386AC6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883131-F325-4344-9319-F2066554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BD1AD3-E12E-4E7C-A0C9-03501BB3E2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01B3D6-2DE2-4A95-884E-5AE9026E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A1C173-2264-448E-AD0A-3748911985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63EFCC-9F34-4AD7-AF16-02CA27EC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ABB912-DE02-4F52-A0D9-E975A4F0094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10E152-C27F-45B2-9F4C-2070EFF88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F958B5-73E4-4991-84A1-4CB285CAE0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89C412-7561-4D5B-9185-62997EEC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61D5D6-1D85-451F-B485-672F5AEE75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953DCF-10C3-43B4-8366-E787813D1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514C4F-CD62-41AF-8550-6479A754114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2A3D17-6358-4ECF-93E6-51173E168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ço Reservado para Rodapé 3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ço Reservado para Número de Slid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446D85-CA2E-4CEB-8E1A-1D50D499C9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40CBB0-1F6D-4DE2-9AAB-BB3E9055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E8AE97-028B-4603-BEAF-B9805DA20BE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A3369C-DD98-424B-9D4F-F6D5D2CAF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8CA9CD-D3A8-4DAB-80E4-B9EDD334B3A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FBBC42-D2B6-4CA7-B231-983255A4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149C12-FC75-4F6D-8514-971D3E0A8D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E32F4E-1663-4318-9086-F2C91050B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48BBFE-B6D1-41FA-A58B-D322D922869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8C92FA-6E47-4739-A38B-AEF83849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2F486F-AEE6-488A-BAFA-99A7BAB6855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11C3F7-BC03-4F40-AA47-8E6F0E953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6EE230-8EF9-45E8-9923-25611FD8F7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79DFB5-806D-493C-9B91-4715B1DC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50BF03-50C0-4DD5-BDD2-428ACD192C2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777-C6AC-4EBA-B107-DD414606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201-4AEA-41C6-A27E-E32BA592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0D0-894A-42D4-B83E-06DC9436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D2C-4756-42BF-A177-0753AD1D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F45-95C1-459C-A3D7-8A790D8E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DDB-6506-422A-9CB3-C822DCBA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6A4-D86E-4668-BEDE-492B5C64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6BD-3D37-4D0A-9ECF-F1C99C2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BA7-A783-464B-9CB8-5F0C87A7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7ED-CE4D-4B00-BD74-F7D0ACD9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C87-5FDB-48EF-AAC9-30F4775D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72F-B6FC-4081-9CD3-0AC1970B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D1A1-2D51-4DE4-9D00-DEE4CE19AC1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B476-B2CD-4648-A03A-246C7176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0312-5F15-4716-84D0-D6FA742C1EFB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7F1-36CB-494E-924F-E1F1B0A46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SENVOLVIMENTO DE SISTEMAS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ula 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52" name="Espaço Reservado para Rodapé 7"/>
          <p:cNvSpPr/>
          <p:nvPr/>
        </p:nvSpPr>
        <p:spPr>
          <a:xfrm>
            <a:off x="61128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BB3D-19A0-42B8-B278-98E5F4A1237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D49C-4F37-4746-BC36-0ABF3318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0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ões (Gates) -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presentados de duas for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contro da seta da mensagem no retângulo da ocorrência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queno quadrado podendo ser atingido por uma mensagem ou a mensagem partindo d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32000" y="4076640"/>
            <a:ext cx="2638440" cy="2171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4500720" y="4508640"/>
            <a:ext cx="29620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5B07-8A82-466A-BDFB-D758CB1631D1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C419-D044-4761-BD65-C0B579557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16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os combinados (FC) e Operadores de Interação (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ersões anteriores a UML 2.0 tinham dificuldades de modelar testes se-senão, laços ou processamentos par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partir da UML 2.0 dificuldades foram abordadas com uso de FC´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dos por um retângulo que determina abrangência do fragmento de diagrama e uma subdivisão no canto superior esquerdo para identificar a descrição do fragmento combinado e seu operador de inter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120F-1B58-4106-A8BC-5CD3AD115C31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74E4-618F-4DC9-BE3D-2EB22870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2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mais com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T (Alternatives) – Define que fragmento combinado representa a escolha entre dois ou mais compo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843280" y="3429000"/>
            <a:ext cx="3889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D5BE-7E19-4BA9-810B-7E51B51A350D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D64A-8DEA-486D-9B0D-13D774036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T (Alternatives) – Fragmentos combinados tem ao menos uma divisão por linha trace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a uma dessas divisões é chamada de separador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ndo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fragmento combinado contem ao menos um operando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t (Option) –Determina que o fragmento combinado representa uma escolha de comportamento que será ou não executado, não tendo escolha entre maiss de um comportamento pos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8282-8AD3-4CBB-A1C4-E106A6ADDD5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A141-1D98-46D6-9738-A5D0B6F16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35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48812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272C-3288-48BE-932E-F4374D8F745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FE95-2506-45ED-9B5D-FAE70E3D9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4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ar (Parallel) – Determina que fragmento combinado representa execução paralela de dois ou mais compo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3575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A84F-ED4A-4BC4-8D85-6319119596EF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9291-1492-4AA2-8B7F-21245DDB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50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oop (Looping) – Determina que o fragmento combinado representa um laço que pode se repetir varias ve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5545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18DB-88FB-4DEA-9BF4-12C74E376E3A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1682-1567-4717-BAED-55189F279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reak (Quebra) Determina quebra de execução normal do processo, usado principalmente para modelar tratamento de exce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561672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277C-FB4A-4F36-B05D-C5B1CC23E6A4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97AD-11DE-456B-9EB1-7928A354C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66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itical Region (Região critica) – Identifica operação atômica que não pode ser interrompida por outro processo até ser concluí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1333440" y="3213000"/>
            <a:ext cx="59515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1DB4-80B8-41C8-BA2F-DCD21DF0625D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C667-3D3B-4D57-B7EB-781100DD1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74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ado invariante – Restrição de tempo de execução aplicada aos participantes da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ser usada para especificar diferentes tipos de restrições como valores ou atributos variáveis, estados internos ou ex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É um fragmento de interação e deve ser colocado sobre a linha d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CAE7-C0A7-449C-BFCA-62DF593AAC5D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E0F5-448C-4A8B-94E3-B9B8A7FD2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56" name="Espaço Reservado para Rodapé 7"/>
          <p:cNvSpPr/>
          <p:nvPr/>
        </p:nvSpPr>
        <p:spPr>
          <a:xfrm>
            <a:off x="755640" y="6165720"/>
            <a:ext cx="8209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agrama de sequenci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nsagens perdidas e Mensagens enco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os de 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orrências de Int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ões (G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os combinados e operadores de In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do Invar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7798-C1CB-4A9A-87C7-065CBDB24661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614F-6EB4-4592-9C22-14584486E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81" name="Espaço Reservado para Rodapé 7"/>
          <p:cNvSpPr/>
          <p:nvPr/>
        </p:nvSpPr>
        <p:spPr>
          <a:xfrm>
            <a:off x="755640" y="6165720"/>
            <a:ext cx="8209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39640" y="1844640"/>
            <a:ext cx="808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rcíc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 base no Material de apoio, reúna os grupos e temas utilizados nos trabalhos anteriores  desenvolva os diagramas de sequencia relacionado a cada gru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DB94-7D8A-4D16-9732-FA6AEC4B9781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4FCB-A849-49DB-A45D-09C143FFB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1476360" y="6237360"/>
            <a:ext cx="669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m 15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611280" y="1197000"/>
          <a:ext cx="7921440" cy="4825800"/>
        </p:xfrm>
        <a:graphic>
          <a:graphicData uri="http://schemas.openxmlformats.org/drawingml/2006/table">
            <a:tbl>
              <a:tblPr/>
              <a:tblGrid>
                <a:gridCol w="780840"/>
                <a:gridCol w="7140600"/>
              </a:tblGrid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GRAFIA BÁ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EDES, Gilleanes T.A.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L 2: Uma Abordagem Prática. 1ª Edição. São Paulo: Novatec, 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ZLAWICK, Raul Sidnei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 Projeto de Sistemas de Informação Orientados a Objetos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ª Edição. Rio de Janeiro: Campus, 20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, David; MCLAUGHLIN, Brett; POLLICE, Gary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a cabeça Análise &amp; Projeto Orientado ao Objet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Rio de Janeiro: Alta Books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GRAFIA COMPLEMEN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AUJO, Ricardo;  LIMA, Cardoso André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L Aplicada: Da teoria à implementaçã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 Rio de Janeiro: Ciência Moderna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OCH, Grady; RUMBAUGH, James;, JACOBSON, Ivar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L: Guia do Usuári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Rio de Janeiro: Campus, 200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MAN, Craig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izando UML e padrões: Uma introdução à análise e projeto orientados a objetos e ao desenvolvimento iterativo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ª Edição. Porto Alegre: Bookman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A FILHO, Wilson de Pádua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enharia de Software: Fundamentos, métodos e padrões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ª Edição. Rio de Janeiro: LTC, 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VA, Nelson Peres da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 Estruturas de Sistemas de Informação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ª Edição. São Paulo: Érica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7BD9-6056-4FA1-A126-436568D3B0EB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3FEF-E9DE-45F6-A5D0-8A8806200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6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ns perdidas e Mensagens Encont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r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m enviada sem confirmação de receb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não ter chegado ao destino ou ter sido enviada a um destino fora do dia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contr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ebimento de mensagem enviada por elemento desconhecido ou fora do diagrama ou ainda recebimento de uma mensagem que foi dada como perdida por tempo de espera exce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07E0-0CB1-4BD1-8ED0-2D1A76F8D48F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89E7-C468-4916-97C7-59D6DE57D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6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ns perdidas e Mensagens Encontradas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mbas são representadas por um circulo preench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ndo é mensagem perdida o circulo é atingido pela mensagem, quando é encontrada a mensagem  parte do circ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r troca de mensagens entre objetos localizados em máquinas diferentes e distantes, com comunicação realizada por protocolo de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244B-8055-4892-8FE7-D17BC3B60CB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A9AE-CB04-47C6-9819-35AC75D56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74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210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E49D-0025-4D8A-9069-D00969422A1B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67AD-EAF6-4256-AA90-63F9DAC11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81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as – Igual ao conceito explicado em diagrama de classes, representa um objeto no diagrama de sequencia contendo instancias das portas declaradas na classe a que ele pertence, dessa forma o objeto poderá ter mais de uma linha de vida permitindo representar mensagens internas e externas ao 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 Portas 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representadas por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tângulos abaixo do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bjeto com linhas de vid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49687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C25D-C75D-4B23-BBAD-AFAD6F839824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3DA1-C3F8-4782-8A23-08496818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8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os de Interação – Noções abstratas de interação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pesar de ser um fragmento de interação é considerado uma interação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do por um retângulo que envolve toda a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8876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CD24-3200-45E6-95B4-B863E13F90E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1A9F-AE92-4A94-B891-54D4B3CB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corrências de Interação – Principal vantagem do uso de fragmento de interação é referenciar outro diagrama, não detalhado no diagrama em questão, referencia-se por meio do oper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f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(abreviação de Referred) , passou a chamar-se Uso de interação a partir do UML 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61563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D71-AFF7-431C-89EF-34753DBFE853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93B9-83C8-4361-92CE-9129066C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0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corrências de Interação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uma simples chamada a outro fragmento de interação ou passar parâmetros e receber o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sociaç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clu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ten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ferenciadas no diagrama de sequencia por meio de ocorrências de interação como forma de documentar um caso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ões (G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e entre fragmentos, ponto de conexão para relacionar uma mensagem fora de uma ocorrência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2:46:57Z</dcterms:created>
  <dc:creator>FedEx User</dc:creator>
  <dc:description/>
  <dc:language>en-US</dc:language>
  <cp:lastModifiedBy>sdas dsad</cp:lastModifiedBy>
  <dcterms:modified xsi:type="dcterms:W3CDTF">2016-06-08T12:26:26Z</dcterms:modified>
  <cp:revision>36</cp:revision>
  <dc:subject/>
  <dc:title>Slide 1</dc:title>
</cp:coreProperties>
</file>